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53B6-914E-44D9-ADB4-36CD7F18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7930-4069-4844-A410-34DD1C80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975D-9753-4DD4-B530-1050B3F0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093D-AC6D-4EB2-A014-AA8F6D9BE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D3F2-8AB7-42E8-9306-2EE63C06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9690-614F-4E97-9496-425292D3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6554-FB14-4111-9872-8B85C8BD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6B79-05DF-4973-8308-BB79E38C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AE2D-584B-4A0E-BA0C-13B8D113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D7BB-E585-422E-80B5-F80F4050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BA29-FEB7-46C1-86FA-E8B5707C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3AA9-529A-4103-9B27-6D8CC1E9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FE15-F436-4FD7-8EE0-2F3652580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209680" y="-1523880"/>
            <a:ext cx="11277360" cy="12725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6880" y="6324480"/>
            <a:ext cx="228600" cy="228600"/>
          </a:xfrm>
          <a:prstGeom prst="star5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6019920"/>
            <a:ext cx="228600" cy="228600"/>
          </a:xfrm>
          <a:prstGeom prst="star5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09680" y="5638680"/>
            <a:ext cx="228600" cy="228600"/>
          </a:xfrm>
          <a:prstGeom prst="star5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43200" y="4876920"/>
            <a:ext cx="228600" cy="228600"/>
          </a:xfrm>
          <a:prstGeom prst="star5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3505320"/>
            <a:ext cx="228600" cy="228600"/>
          </a:xfrm>
          <a:prstGeom prst="star5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200400"/>
            <a:ext cx="228600" cy="228600"/>
          </a:xfrm>
          <a:prstGeom prst="star5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3962520"/>
            <a:ext cx="228600" cy="228600"/>
          </a:xfrm>
          <a:prstGeom prst="star5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3276720"/>
            <a:ext cx="228600" cy="228600"/>
          </a:xfrm>
          <a:prstGeom prst="star5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3581280"/>
            <a:ext cx="228600" cy="228600"/>
          </a:xfrm>
          <a:prstGeom prst="star5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4343400"/>
            <a:ext cx="228600" cy="228600"/>
          </a:xfrm>
          <a:prstGeom prst="star5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4114800"/>
            <a:ext cx="228600" cy="228600"/>
          </a:xfrm>
          <a:prstGeom prst="star5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4419720"/>
            <a:ext cx="228600" cy="228600"/>
          </a:xfrm>
          <a:prstGeom prst="star5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4495680"/>
            <a:ext cx="228600" cy="228600"/>
          </a:xfrm>
          <a:prstGeom prst="star5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4724280"/>
            <a:ext cx="228600" cy="228600"/>
          </a:xfrm>
          <a:prstGeom prst="star5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7467480"/>
            <a:ext cx="426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0"/>
            <a:ext cx="4876920" cy="642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tewater Treatment Plants that Discharge Blended Effluent in Wet We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0"/>
            <a:ext cx="228600" cy="228600"/>
          </a:xfrm>
          <a:prstGeom prst="star5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5486400"/>
            <a:ext cx="228600" cy="228600"/>
          </a:xfrm>
          <a:prstGeom prst="star5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09680" y="1371600"/>
            <a:ext cx="609840" cy="2462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lej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1676520"/>
            <a:ext cx="45720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2819520"/>
            <a:ext cx="609840" cy="2462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ni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657600" y="31240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4038480"/>
            <a:ext cx="1143000" cy="2462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nole Herc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4648320"/>
            <a:ext cx="762120" cy="2462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chmo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5105520"/>
            <a:ext cx="685800" cy="2462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BMU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2971440" y="41148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2666880" y="4495320"/>
            <a:ext cx="1524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2971800" y="50288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6095880"/>
            <a:ext cx="914400" cy="2462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n Leand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3505320" y="5638680"/>
            <a:ext cx="1371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5410080"/>
            <a:ext cx="990720" cy="2462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F Oceans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5791320"/>
            <a:ext cx="990720" cy="2462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F Southea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6324480"/>
            <a:ext cx="1371600" cy="2462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th SF/San Bru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6781680"/>
            <a:ext cx="914400" cy="2462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rling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28800" y="7391520"/>
            <a:ext cx="1219320" cy="2462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ty of San Mate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743200" y="66290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828800" y="6248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676520" y="579132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600200" y="54860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219320" y="54100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1905120"/>
            <a:ext cx="609840" cy="2462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va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971800"/>
            <a:ext cx="914400" cy="2462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s Galli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429000"/>
            <a:ext cx="990720" cy="2462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ntral Mar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962520"/>
            <a:ext cx="571680" cy="2462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4648320"/>
            <a:ext cx="685800" cy="2462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bur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5029200"/>
            <a:ext cx="1371600" cy="2462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usalito Marin C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447920" y="49528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295280" y="4647960"/>
            <a:ext cx="5335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41911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365760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2004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2209680"/>
            <a:ext cx="1522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5334120"/>
            <a:ext cx="152640" cy="152280"/>
          </a:xfrm>
          <a:prstGeom prst="octagon">
            <a:avLst>
              <a:gd name="adj" fmla="val 2928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5334120"/>
            <a:ext cx="152640" cy="152280"/>
          </a:xfrm>
          <a:prstGeom prst="octagon">
            <a:avLst>
              <a:gd name="adj" fmla="val 2928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21:55:53Z</dcterms:created>
  <dc:creator>Mike Chee</dc:creator>
  <dc:description/>
  <dc:language>en-US</dc:language>
  <cp:lastModifiedBy>Mike Chee</cp:lastModifiedBy>
  <dcterms:modified xsi:type="dcterms:W3CDTF">2008-11-04T18:25:35Z</dcterms:modified>
  <cp:revision>19</cp:revision>
  <dc:subject/>
  <dc:title>Slide 1</dc:title>
</cp:coreProperties>
</file>