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4AB-BDC6-4092-BB1E-BAD64A4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29A-AA4A-4801-AD20-E18EEAE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F38-8BA4-4D78-A77D-8591462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301-A666-4FD4-BB69-F903B81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03F-0333-4005-925D-F7482710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0652-E784-4425-BE87-EEE9F43B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4D70-0D58-469C-AA16-9AED98D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85B9-1060-44B9-A26E-2F41030C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9DBB-C2A0-437A-92EE-248868D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58ED-E519-494D-B70C-C745B26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F0F-B137-4E7E-B180-A2EDDA8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ED0-31BE-4E98-A538-90AB6956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270-B3A4-4073-8753-9C13B18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D6C-DC7B-4CFA-BF54-FCF9EFB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B3B8-B48D-4648-A186-415DAFF6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C3C-281D-41E7-9906-757DEAF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DC62-2F81-447E-BE90-ACDE4130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9B1-888D-483B-9B6B-9586AF1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D39-DBCE-4F89-AED2-2E376E2C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F19-DCF6-4B0F-A809-B532B78C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FCD-7B8B-4236-8289-3363C08A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530-6931-406B-8B62-B8D706D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982-C5A2-4B50-89CA-FCE3B90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917-A365-44F5-AF87-FC556FE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3B66-7C00-4E6F-80A5-75A84B171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9D41-E33B-46C7-B62E-44A803646A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CL_mtbe1" descr=""/>
          <p:cNvPicPr/>
          <p:nvPr/>
        </p:nvPicPr>
        <p:blipFill>
          <a:blip r:embed="rId1"/>
          <a:srcRect l="8091" t="6939" r="8592" b="5187"/>
          <a:stretch/>
        </p:blipFill>
        <p:spPr>
          <a:xfrm>
            <a:off x="228600" y="603360"/>
            <a:ext cx="8153280" cy="6254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1. Geographic Distribution of Study Si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848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9, Frequency of Contaminant Detection in Soi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998720"/>
          <a:ext cx="914400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98720"/>
                    <a:ext cx="91440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6680" y="7621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8532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sampled for MtBE 43; other oxygenates - 34; 1,2-DCA - 24; EDB - 23; TPHg - 35; Benzene - 3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0, Frequency of Detection of TBA in Groundwater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" y="2733840"/>
          <a:ext cx="8918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2733840"/>
                    <a:ext cx="8918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1430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0"/>
            <a:ext cx="7086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A concentrations up to 27,000 p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sites sampled: 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1, MtBE – TBA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974960"/>
          <a:ext cx="92250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74960"/>
                    <a:ext cx="92250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438280" y="19051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E detected at 62 si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A detected at 13 of these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2, TPHg Concentrations in GW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057400"/>
          <a:ext cx="798696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98696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5400" y="617220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sampled for TPHg in groundwater: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3, MtBE – TPHg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4520" y="3492360"/>
          <a:ext cx="907596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3492360"/>
                    <a:ext cx="907596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434680" y="1752480"/>
            <a:ext cx="4713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BE/TPHg in groundwater analyzed at 51 si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sites - MtBE and TPHg were 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 sites - both MtBE and TPHg detect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sites  - MtBE detected but not TPHg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sites - TPHg detected but not Mt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4, Benzene Concentrations in Groundwa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019240"/>
          <a:ext cx="914400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9240"/>
                    <a:ext cx="914400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41008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 sites samp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5, Benzene – MtBE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69840" y="3352680"/>
          <a:ext cx="910116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" y="3352680"/>
                    <a:ext cx="910116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057400" y="1828800"/>
            <a:ext cx="53341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BE/benzene in groundwater analyzed at 54 sit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sites - both MtBE and benzene were 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 sites – both TPHg and benzene de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sites - benzene detected, but not Mt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sites – MtBE detected but not benz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, High Threat Site Distribution Based on Lo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752480"/>
          <a:ext cx="914400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2057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3 “high threat” sites were issued requests to conduct MtB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2, Frequency of Choosing MtBE Monitoring Op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243160"/>
          <a:ext cx="875808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43160"/>
                    <a:ext cx="875808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required to monitor for MtBE: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3, Samples Analyzed for Oxygena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9240" y="2538360"/>
          <a:ext cx="89247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538360"/>
                    <a:ext cx="89247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4, MtBE Concentrations in GW at Operating    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60" y="1905120"/>
          <a:ext cx="906624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905120"/>
                    <a:ext cx="906624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624852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monitored for MtBE: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5, MtBE Concentrations in Soil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036880"/>
          <a:ext cx="914400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6880"/>
                    <a:ext cx="91440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43828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3 sites sampl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6, Correlation between MtBE in Soil and G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3581280"/>
          <a:ext cx="905184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905184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83808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654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BE was analyzed in both soil and groundwater samples at 40 si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ites - MtBE was ND in soil and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sites - MtBE was detected in soil and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 sites - MtBE detected in groundwater but not in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ite - MtBE detected in soil but not in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958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water sampling is more reliable method for MtBE investigation than soil sampl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7, Depth to Wa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036880"/>
          <a:ext cx="914400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6880"/>
                    <a:ext cx="91440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8, Frequency of Contaminant Detection in G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057400"/>
          <a:ext cx="91440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# of sites sampled for MtBE - 117; TBA &amp; TAME – 114; EtBE &amp; DIPE – 115; 1,2-DCA - 50; EDB - 43; TPHg - 51; Benzene-5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20:46:49Z</dcterms:created>
  <dc:creator>Barbara Sieminski</dc:creator>
  <dc:description/>
  <dc:language>en-US</dc:language>
  <cp:lastModifiedBy>Barbara Sieminski</cp:lastModifiedBy>
  <dcterms:modified xsi:type="dcterms:W3CDTF">2004-11-16T23:52:43Z</dcterms:modified>
  <cp:revision>323</cp:revision>
  <dc:subject/>
  <dc:title>MTBE PROJECT</dc:title>
</cp:coreProperties>
</file>