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9EB-983D-4C54-AD44-A6D932CB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B36-B264-4310-A6DE-EDC1279B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971-8ED7-4807-B42B-A3FDF048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87E-0C08-4B8B-A16E-87D44462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D11-0413-4D26-8B5E-6BBA49E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CB2-DB64-4482-96A6-E318DD7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122-99E3-4DEA-B92A-118F4BD9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1AB-7EF1-4E9D-B337-C2703C00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FFE-F1D5-4A6D-BB2A-9ED13DF3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68B-217E-4FA8-9CAC-41D22ED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5FF-3AE0-48D2-B05B-EFB8A074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A2A-FD36-4ED0-B91A-6DD97AE4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AADE-52FC-4805-92D3-E1C67F33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5829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Techniques of Water-Resources Investigation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Book 9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Handbooks for Water-Resources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National Field Manu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for the Collection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Water-Quality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705720"/>
            <a:ext cx="3810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U.S. Department of the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U.S. Geological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772400"/>
            <a:ext cx="1771920" cy="714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67080" y="81532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33"/>
                </a:solidFill>
                <a:latin typeface="Arial"/>
              </a:rPr>
              <a:t>Updated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8:05:46Z</dcterms:created>
  <dc:creator> </dc:creator>
  <dc:description/>
  <dc:language>en-US</dc:language>
  <cp:lastModifiedBy>fwilde</cp:lastModifiedBy>
  <dcterms:modified xsi:type="dcterms:W3CDTF">2008-02-15T17:06:17Z</dcterms:modified>
  <cp:revision>11</cp:revision>
  <dc:subject/>
  <dc:title>Techniques of Water-Resources Investigations  Book 9 Handbooks for Water-Resources Investigations</dc:title>
</cp:coreProperties>
</file>