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253-2AE3-4715-A8C8-578508C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68A-2F11-4E6C-9973-1FD1C37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CEB-3570-4D2C-804A-783D2198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7E6-D78D-4ABF-A7F8-8B5CBB8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A54-DFA5-46DB-97B7-18013636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2BB-D7E8-4656-BB49-9E1FAC7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5FB-EDD5-44D6-AEA8-92DD74DF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552-7003-4EB5-AAA5-072073A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285-9F4C-4E6B-8357-CE56BF41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41B-CB55-43E6-9AEF-19C1C23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546-5258-4A67-B762-73FF99A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2DA-F7B6-4069-99F2-5AF26D4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4BE-7735-4B58-96EB-86A4389F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09480" y="723960"/>
            <a:ext cx="82965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866240" y="2543040"/>
            <a:ext cx="755280" cy="2311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006e4"/>
                </a:solidFill>
                <a:latin typeface="Times New Roman"/>
                <a:ea typeface="Times New Roman"/>
              </a:rPr>
              <a:t>Diggins Ck</a:t>
            </a:r>
            <a:r>
              <a:rPr b="1" lang="en-US" sz="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3"/>
          <p:cNvCxnSpPr/>
          <p:nvPr/>
        </p:nvCxnSpPr>
        <p:spPr>
          <a:xfrm>
            <a:off x="2623680" y="2657520"/>
            <a:ext cx="19620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0120" y="647640"/>
            <a:ext cx="794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21:44:20Z</dcterms:created>
  <dc:creator>Administrator</dc:creator>
  <dc:description/>
  <dc:language>en-US</dc:language>
  <cp:lastModifiedBy>Administrator</cp:lastModifiedBy>
  <dcterms:modified xsi:type="dcterms:W3CDTF">2011-03-03T21:58:26Z</dcterms:modified>
  <cp:revision>3</cp:revision>
  <dc:subject/>
  <dc:title>PowerPoint Presentation</dc:title>
</cp:coreProperties>
</file>