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4CA-00C5-4CFD-91D5-D6A30F22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063-3F02-4900-BF26-BD7D42EA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197-53E0-4B5E-B28F-FDB2F394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3F4-CF46-4536-BA56-E0ACD38D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1CCB3-D139-4968-B91F-507B3104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DC026-5A8E-4BF7-8BBF-B783C416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86054-C34D-4D8B-81B2-96EFAD3D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E0D73-F3FD-4972-B201-C775F7D4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29800-983D-44AB-A70D-40660314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F04E2-49D2-433F-9911-09261F61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8E18-25C5-41BF-9CF0-63303D25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3D8-A624-4F4E-91F1-38FC3EC0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9BC38-2DF5-477E-9DC6-42056457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F9744-4618-44E5-84BF-0DCE6BD2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B37B7-7229-46C2-9E7D-FC4BE6CE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E8580-42FA-4D22-8213-4CA6AA43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51641-75FF-4148-A5E5-7DF39F64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5B2-76CA-4A7B-8EB2-7292A1AC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318-AA64-4C58-A653-BD85BCF4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F73-3A8F-4D5F-96E7-259C7E76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F1E-2118-48F3-8D17-62834EAD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F56-AF0D-4C7B-8659-5E823667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093-B5BC-413F-97E5-E829BE1C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7F4-D5B5-4603-8AAD-2B3D2293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7CBA-96AF-4197-8D67-738A24BA2A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FBF-A07A-4005-8711-01DFD0C4B2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3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00" y="5711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Dissolved Metal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295280"/>
          <a:ext cx="8229600" cy="4953240"/>
        </p:xfrm>
        <a:graphic>
          <a:graphicData uri="http://schemas.openxmlformats.org/drawingml/2006/table">
            <a:tbl>
              <a:tblPr/>
              <a:tblGrid>
                <a:gridCol w="1981080"/>
                <a:gridCol w="3048120"/>
                <a:gridCol w="32004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na mean (ug/L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nnel me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ug/L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26*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&gt;CTR chronic (3.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1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&gt;CTR chronic (3.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ediment Metals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295280"/>
          <a:ext cx="8229600" cy="4648320"/>
        </p:xfrm>
        <a:graphic>
          <a:graphicData uri="http://schemas.openxmlformats.org/drawingml/2006/table">
            <a:tbl>
              <a:tblPr/>
              <a:tblGrid>
                <a:gridCol w="1295280"/>
                <a:gridCol w="2210040"/>
                <a:gridCol w="2430360"/>
                <a:gridCol w="229392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na mean (ug/g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nnel me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ug/g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exceeds ER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4.81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6.2**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ug/g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8.4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.4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2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.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.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72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5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2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whether Cu antifouling boat paints are a significant source of Cu to the water &amp; sediments in marinas and Lower Newport B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metal concentrations in water and sediment in marinas and adjacent channel s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st for toxicity in marinas &amp; channe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Cu Metals Marina Study </a:t>
            </a:r>
            <a:br>
              <a:rPr sz="4000"/>
            </a:b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– Lower Newport Bay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OC Coastkeeper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(Ray Hiemstra)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Santa Ana RWQCB (Linda Candelaria, PhD)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City of Newport Bea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152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clusion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issolved Copper only metal above CTR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cute &amp; chronic  (4.8, 3.1 ug/L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biggest source of Cu is boat paints  ~ 60,000 lbs/yr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st dissolved Cu marina means &amp; half channel means above CT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ean dissolved Cu concentrations mostly above mean channel concentrations (altho not statistically significan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ighest dissolved Cu concentrations in W Newpor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o Water Toxicity Fou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clusions con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Cu, Hg, Zn above ERM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Cu, As, Cd, Cr, Hg, Pb and Zn above ERL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rina means mostly higher than channel means  (statistically significant in 5/8marina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highest sediment concentrations in W Newport, lowest in Dunes, DeAn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clusions cont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Toxicit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toxicity found at 8/10 stations tested (6/8 marinas) w/Eohaustori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ore water tests showed reduced %alive altho results were inconclu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ata suggests that Cu boat paints are significant source of Cu to marina waters and sedi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4651" t="0" r="694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Newport Bay Copper/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Marinas Metals Study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1333440"/>
            <a:ext cx="678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whether Cu antifouling boat paints are a significant source of Cu to the water &amp; sediments in marinas and Lower Newport Ba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metal concentrations in water and sediment in marinas and adjacent channel si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toxicity in marinas &amp; channe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Methodology -sampl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llect water and sediment samples throughout Lower Newport B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ites – 8 marinas &amp; adjacent channe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3 stations/marina, 1 station in channe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+ 2 storm drain sites, 1 shipyard si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3 sampling events: May, August, Dec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1 supplemental sampling:  Nov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August –Toxicity analyses on subset of 10 samp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Methodology cont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Chemical Analysi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 dissolved &amp; total metals,  TSS, DOC, salinity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edim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metal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Aug -additional  -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10 samples) -PCBs, PAHs, toxicity (water &amp; sed) , sediment TOC, PSA, AVS/SEM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Toxicity Analysis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10 samples)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-Wate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mussel embryo,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-Sedim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amphipod (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Eohaustorius),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diment/water interface, pore wat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ter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nly Dissolved Cu above CTR standar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ested Cu, Cd, Cr, Zn, As, Hg, Pb, Ni 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ean dissolved Cu concentrations mostly above mean channel concentr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diment –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diment Cu, Hg, Zn above ER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rina means mostly higher than channel mea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4:39:44Z</dcterms:created>
  <dc:creator>Raymond Hiemstra</dc:creator>
  <dc:description/>
  <dc:language>en-US</dc:language>
  <cp:lastModifiedBy>staff</cp:lastModifiedBy>
  <dcterms:modified xsi:type="dcterms:W3CDTF">2008-09-23T18:24:01Z</dcterms:modified>
  <cp:revision>54</cp:revision>
  <dc:subject/>
  <dc:title>Slide 1</dc:title>
</cp:coreProperties>
</file>